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DDA-3EA3-4213-8EA6-FDFB8B31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5CC2-209E-4E83-BE49-6B0D8E7B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A718-FA77-40C3-941D-0A77FC36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0ED-3D9B-4E70-ABD3-B8F389CE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6C53-FE8C-4BC4-A60A-7BB0FB87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C142-4DE2-4A88-92D5-296A77D4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2DEB-D929-40A5-9FB1-AA85B0D3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25D3-A017-4747-B951-01E32B01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8C26-FD2C-481A-B87F-F09F9B0D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257D-9204-4FD8-8971-E6D4620C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D750-A82B-4193-8260-DBB3697E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606-C494-4E1F-996B-F9EF288A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F300-B7E3-4D7C-96FA-D0437C7A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F3CB-8F07-4E54-BED2-B3426776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B6FF-7612-4F93-83EB-09ACB492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297D-8915-43E4-8386-C81871D2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FBAD-04AE-4864-8C0D-F5E5B64D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04D71-3169-403F-9B19-919B89D6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0BB6F-6045-4D95-9BB4-7EA25C72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A0AC0-EF24-4788-8114-C4A2A053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DCA6A-2E30-4CC6-B382-F571AD3C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956F6-8BBB-4F75-8C36-91A4444A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46E-3D23-416B-A790-4B873392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FD037-BF23-4021-B251-C61A65A3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A29D6-13B0-48A3-88DC-06EB2A8F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BB3C4-48BB-4271-8CE1-692A5F37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890D2-1EDC-40A5-A12F-3932C94C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CAF9C-6953-42F7-872F-3D8A21AC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5935B-E673-457A-8625-E53BA1C2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0CBAF-F534-423B-9AB1-978F11A4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E84C3-2CF2-4544-BBB2-FC58F1BA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D6E89-98FB-4D70-B9E8-8E992CF2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9B965-7023-4E10-A656-B34F0EF8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0D6-D69C-4D7F-8289-8274B684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720BB-4A8E-4B39-A129-AD4C7066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1A9DA-9384-4EF1-B426-87B81DF3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D1F60-E974-48CB-82A5-DEA9DA1C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5C38D-BD75-4F13-9DD0-03A156DF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F1294-46F9-4CCF-8E00-2F5F4DAA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C6772-54C5-4D72-924D-351D199C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A465F-6BC8-4AF5-A767-C47DCD39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4DB9C-743B-4806-910D-E9606564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408DE-9EED-4C82-BAE9-0778FC61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CC3-3C17-46F6-95E5-3EAB5253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A69-0E1E-4F9A-9D0C-B01C1EB8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AB1D-D29A-417E-B57A-971542A8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A67F-D2C8-463D-9CAF-8236A2B9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671-D6CA-4015-97B3-41C5CDB5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5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1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8"/>
            <p:cNvSpPr/>
            <p:nvPr/>
          </p:nvSpPr>
          <p:spPr>
            <a:xfrm>
              <a:off x="684360" y="581400"/>
              <a:ext cx="7746480" cy="56829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>
              <a:off x="684360" y="6042240"/>
              <a:ext cx="7746480" cy="1080"/>
            </a:xfrm>
            <a:prstGeom prst="line">
              <a:avLst/>
            </a:prstGeom>
            <a:ln w="12600">
              <a:solidFill>
                <a:srgbClr val="bebd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>
              <a:off x="684360" y="563760"/>
              <a:ext cx="7746480" cy="24883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2A0E8-E4B8-45CD-8D9B-F13AA1726C34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04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47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Group 2051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49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48A94-56CE-41E7-B146-400B5569603D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307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94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3075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96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68B0A-29BB-4B86-9833-38FD1F5E8A89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409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4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Group 4099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142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Calisto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B7C0D-B31C-424E-A13D-79F6F6CDCE73}" type="slidenum">
              <a:rPr b="0" lang="en-US" sz="1200" spc="-1" strike="noStrike">
                <a:solidFill>
                  <a:srgbClr val="b0bcc1"/>
                </a:solidFill>
                <a:latin typeface="Calisto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04040"/>
                </a:solidFill>
                <a:latin typeface="Calisto MT"/>
                <a:ea typeface="SimSun"/>
              </a:rPr>
              <a:t>How Many </a:t>
            </a:r>
            <a:r>
              <a:rPr b="0" lang="en-GB" sz="5400" spc="-1" strike="noStrike">
                <a:solidFill>
                  <a:srgbClr val="404040"/>
                </a:solidFill>
                <a:latin typeface="Calisto MT"/>
                <a:ea typeface="SimSun"/>
              </a:rPr>
              <a:t>.....</a:t>
            </a:r>
            <a:r>
              <a:rPr b="0" lang="zh-CN" sz="5400" spc="-1" strike="noStrike">
                <a:solidFill>
                  <a:srgbClr val="404040"/>
                </a:solidFill>
                <a:latin typeface="Calisto MT"/>
                <a:ea typeface="SimSun"/>
              </a:rPr>
              <a:t> are There?</a:t>
            </a:r>
            <a:endParaRPr b="0" lang="en-US" sz="5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14040" y="344808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sto MT"/>
                <a:ea typeface="SimSun"/>
              </a:rPr>
              <a:t>Show the picture for ten seconds then they can write or shout out the guess. Go back and count after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05" name="Content Placeholder 15362" descr=""/>
          <p:cNvPicPr/>
          <p:nvPr/>
        </p:nvPicPr>
        <p:blipFill>
          <a:blip r:embed="rId1"/>
          <a:stretch/>
        </p:blipFill>
        <p:spPr>
          <a:xfrm>
            <a:off x="1581120" y="2011320"/>
            <a:ext cx="5337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 zebra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 zebra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09" name="Content Placeholder 17410" descr=""/>
          <p:cNvPicPr/>
          <p:nvPr/>
        </p:nvPicPr>
        <p:blipFill>
          <a:blip r:embed="rId1"/>
          <a:stretch/>
        </p:blipFill>
        <p:spPr>
          <a:xfrm>
            <a:off x="2890800" y="1838160"/>
            <a:ext cx="312408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 frog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 frog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13" name="Content Placeholder 19458" descr=""/>
          <p:cNvPicPr/>
          <p:nvPr/>
        </p:nvPicPr>
        <p:blipFill>
          <a:blip r:embed="rId1"/>
          <a:stretch/>
        </p:blipFill>
        <p:spPr>
          <a:xfrm>
            <a:off x="1890720" y="2090880"/>
            <a:ext cx="53420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 horse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 hors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 mice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mouse.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87520" y="1417680"/>
            <a:ext cx="701676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"/>
          <p:cNvPicPr/>
          <p:nvPr/>
        </p:nvPicPr>
        <p:blipFill>
          <a:blip r:embed="rId1"/>
          <a:stretch/>
        </p:blipFill>
        <p:spPr>
          <a:xfrm>
            <a:off x="1870200" y="1417680"/>
            <a:ext cx="549576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1893960" y="1417680"/>
            <a:ext cx="515124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1809720" y="1417680"/>
            <a:ext cx="51753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189" name="Content Placeholder 7170" descr=""/>
          <p:cNvPicPr/>
          <p:nvPr/>
        </p:nvPicPr>
        <p:blipFill>
          <a:blip r:embed="rId1"/>
          <a:stretch/>
        </p:blipFill>
        <p:spPr>
          <a:xfrm>
            <a:off x="1450800" y="1805040"/>
            <a:ext cx="62373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1905120" y="1417680"/>
            <a:ext cx="532764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1217520" y="1673280"/>
            <a:ext cx="60022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736560" y="1417680"/>
            <a:ext cx="78310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tiger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tiger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193" name="Content Placeholder 9218" descr=""/>
          <p:cNvPicPr/>
          <p:nvPr/>
        </p:nvPicPr>
        <p:blipFill>
          <a:blip r:embed="rId1"/>
          <a:stretch/>
        </p:blipFill>
        <p:spPr>
          <a:xfrm>
            <a:off x="1450800" y="1790640"/>
            <a:ext cx="591048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dog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dog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197" name="Content Placeholder 11266" descr=""/>
          <p:cNvPicPr/>
          <p:nvPr/>
        </p:nvPicPr>
        <p:blipFill>
          <a:blip r:embed="rId1"/>
          <a:stretch/>
        </p:blipFill>
        <p:spPr>
          <a:xfrm>
            <a:off x="1790640" y="1854360"/>
            <a:ext cx="58546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elephant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elephant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040"/>
                </a:solidFill>
                <a:latin typeface="Calisto MT"/>
                <a:ea typeface="SimSun"/>
              </a:rPr>
              <a:t>How Many?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pic>
        <p:nvPicPr>
          <p:cNvPr id="201" name="Content Placeholder 13314" descr=""/>
          <p:cNvPicPr/>
          <p:nvPr/>
        </p:nvPicPr>
        <p:blipFill>
          <a:blip r:embed="rId1"/>
          <a:stretch/>
        </p:blipFill>
        <p:spPr>
          <a:xfrm>
            <a:off x="1521000" y="1979640"/>
            <a:ext cx="57466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__ rat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__ rat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are ________ cats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O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Calisto MT"/>
                <a:ea typeface="SimSun"/>
              </a:rPr>
              <a:t>There is _______ cat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16:39:48Z</dcterms:created>
  <dc:creator>Clark Kopelman</dc:creator>
  <dc:description/>
  <dc:language>en-US</dc:language>
  <cp:lastModifiedBy>firea</cp:lastModifiedBy>
  <dcterms:modified xsi:type="dcterms:W3CDTF">2018-12-12T05:20:45Z</dcterms:modified>
  <cp:revision>5</cp:revision>
  <dc:subject/>
  <dc:title>Fruits and Vegetab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2.0.7587</vt:lpwstr>
  </property>
</Properties>
</file>